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563C-C2CD-408F-B4E9-68F9651C0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45EE-3345-4CD2-8822-39755173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C12B-EB38-4F5A-B8A2-FDBF4A057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C7E3-6DF6-40F8-9D2B-97FE56B05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874A-91A5-487E-9A79-AAA83942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98B1-F712-41A0-A25B-3C281F61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0064-906E-4565-B44F-DA2BF489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75AC-B9D5-4233-8074-075E014E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662F-F0B8-464C-8E17-F1672389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09F6-2D5F-4EE7-8CB6-797B98F8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8E17-E401-4AC4-B82C-427B1792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4C80-59B6-4AD7-AF0D-95C353DE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6632-FB69-446B-B162-16063827F0C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Mis documentos\Sin título-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Mis documentos\Sin título-1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Mis documentos\Sin título-1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Mis documentos\Sin título-1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Mis documentos\Sin título-1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Mis documentos\Sin título-1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Mis documentos\Sin título-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Mis documentos\Sin título-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Mis documentos\Sin título-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Mis documentos\Sin título-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Mis documentos\Sin título-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Mis documentos\Sin título-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Mis documentos\Sin título-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Mis documentos\Sin título-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4T13:18:04Z</dcterms:created>
  <dc:creator>Grupo Editorial</dc:creator>
  <dc:description/>
  <dc:language>en-US</dc:language>
  <cp:lastModifiedBy>TORRES</cp:lastModifiedBy>
  <dcterms:modified xsi:type="dcterms:W3CDTF">2010-12-18T22:25:55Z</dcterms:modified>
  <cp:revision>1</cp:revision>
  <dc:subject/>
  <dc:title>Sin título de diapositiva</dc:title>
</cp:coreProperties>
</file>